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4E68D-8C73-42D4-ABB4-CA417C1B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10173-4BE1-4A4B-B654-24EEFAE6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39BE4-8C07-4F6E-9D2F-F955F221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C07B9-C84D-4A13-98B5-BF6AC13D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B5D1C-7227-4D88-9751-90A32A17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DC9AD-CAE4-4B6E-A95F-9DA33446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A7E96-AFC4-4556-99E2-CDC91C0D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BF326-9549-4E8E-8D1F-95B2702B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ED29D-A12F-4947-A2B6-29C842F7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A3047-E5A8-48AC-ABDC-AB2F2073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77008-6EC0-4C54-A40A-58C9AFD0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A5C29-DA00-43EA-8164-02D2F864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A4FB3-6FB0-4F81-B98C-6633699D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8DC1F-408F-4BB7-AE2D-D1F859F7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353B7-4CF4-460F-8AB8-837FA52E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20716-8A17-4B78-8E32-09EE6513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7FF49-A853-4668-A2A8-2DD36276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01954-CAB4-4FC3-A517-3FEB64DD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B3703-F361-4354-A9C2-7416E677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75F03-CCA4-4F64-9BB9-B565F68A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A77FB-0655-40C2-A124-63CDC336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6CC4F-A82B-4C7E-AD3C-ADA6B35B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C1C08-BACC-4DA2-B057-398AF5B6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8CF72-07BF-44A4-AC8E-B4DB2208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C5E09-7CAF-4205-88E9-CEF3306A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A1F40-FCED-48B3-AE32-421AF7E4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8F3B2-4A3C-48B6-92B4-94BC5D08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E7303-0CBE-42F2-9C3A-254ACDA2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89A47-E3CA-479A-981F-5C2A1069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3D54A-0623-4A2A-94DA-C17807D7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4D1-FABD-42E6-BF35-3814E5BD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83098-38E0-4329-9280-2EEFFD29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EF90D-DD74-434A-8317-128623D8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EFEA3-9F5A-4FB8-ADF5-C3ADE389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F9900-5326-4D1D-8135-CC81DB74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E8848-1433-4A1B-B7D4-1044B3A5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E8A60-4FC0-46C4-BC8D-99A4B0EF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2BEA5-4D0A-4731-8B4B-8887FF3F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5E5E0-C6B2-444C-9089-11854ECE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2BD5C-2C63-434D-BF2C-4709B9D4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F7C91-402B-4B7A-935D-CF923CB1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43A-DDFA-4939-B310-F8F98EAE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D8FB4-12D3-4091-8ED1-34194B6C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78968-B0FC-40C4-B8DE-5D7DAB73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484D9-518A-4C49-993A-2E079C4C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00C69-C97E-46EF-8C4E-DFA89DAC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7CF54-EF41-40FD-9C72-30298386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8873-169D-4619-A0A0-95CFDF38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A60-F090-4FAF-87A2-CD3B8C47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7CD-0E74-4EED-BDF5-0C2E10E0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F7F-6A17-43BA-A5D9-34924459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CA3-31DB-43B6-AB78-53985A90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ACBB-0A6E-4095-9030-5938C06C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67C3-6857-4142-8909-6B3D3920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B418-393C-44EB-B416-E71AB4EC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897E-AB66-4DB4-8D21-E0B053A9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81F-DD71-49B0-8E3C-E01F8B1C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6FD6-B77C-4432-8961-5DA77B82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1D2A-1DC8-45F9-ADE4-CC34B6F6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B250-FC52-49E4-ADCA-FC9B0A3E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54F2-D375-4682-9714-FDFAA84C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3314-7B6F-42DB-B7F0-32997380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C710-6C90-4E9B-9B17-511D2883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08AA-7876-46DF-9A19-CED778FB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0FD6-5B3F-4B95-BF94-168EB1C8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D409-33F5-48CE-AD09-5C7E9EC8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B447-C7C0-485F-880D-2A9BE620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651B-6A28-4866-B13A-E590F484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0EDD-2086-4077-A8EE-E293904E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B95CF-BFC1-4CF6-A886-061C96AE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B57CB-5D6F-4AC1-BFFA-7DC69D93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3BFCB-7A15-4092-BD8D-E61234F1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83398-B90C-43D3-85A2-7B547FFA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C5792-EBCE-4A39-9E6F-218C3F03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3AC7E-9FF0-4CE1-8225-421A43E2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73074-2B76-4473-9B4F-6C3C23E9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A7764-7F4A-49E9-B677-7FAFC720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E8B5B-BCBA-49BD-AD34-32291EF8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9FA2C-2A56-4A2C-BC18-A93D4FEC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31F9D-9E63-44D3-9A0D-9BC3F525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B5A2A-E742-44DE-86A9-D0CC86DF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F57C5-8B63-4038-908F-DFC95A02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F2CEB-1C00-49F4-8127-9118C50C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F66AC-3777-4F88-95F5-00E0FD40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CE58F-30F8-4F09-872D-157CA3B7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3FA14-2128-4D48-9739-42C2B087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4917F-EDA1-48AD-85FF-9E5C55FD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43FAF-4E5E-4896-950A-4293162F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45523-3FBE-4B52-AACF-83F4A385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7BD2D-5C03-4BF6-A703-7170953C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2D15D-9369-409D-9728-7320A44C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1CE9B-1886-4D32-8EE9-3A3447AD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18567-6BF4-4E36-98AE-80DA610C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843CD-8902-4334-A71D-D4959398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41689-565A-4C0F-B04A-0B5B923C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F97F2-ED72-4848-9547-101AC359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82F93-DDB7-4B92-B695-CED0F533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84704-0989-4ECE-9261-8CFCE5AA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DDFB6-9965-4BAD-8F21-576B1A29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77610-6C93-45A4-8D42-1C57F6FB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43EDC-7EA1-4B30-8054-E584D4DD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48E7C-0FA7-494E-BE8B-9359EC3B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1A6E9-83E3-4C48-A557-35F27E40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3412B-C6BF-4060-B15A-0278FA2D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34ACE-CF82-47C7-91FD-D25B8027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92D9B-14E0-48E3-ACA4-6090F367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9A6EF-CF35-46C6-ACB9-7B23D1DD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B45A2-757E-4980-9B6F-411306CE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B220D-69AE-417B-8FEF-5EB233E1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E142C-B0C5-4A72-86F7-054AE79A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14C7E-64AE-4C06-95AA-B0C585E9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3F50B-1BDE-4060-BB3A-A9FB40D7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F4BF5-C282-415D-9981-72400345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174FB-71D9-49BF-9AC4-590BE48E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0220F-E866-4988-A392-1D988C04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D1966-F951-4F94-998D-0D95FC59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F1389-8812-4CC9-BF50-0731B28A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B89B2-B22B-4ACF-9925-5515234C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45BAB-266F-4448-BEF4-9BB374EB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541EA-7FE1-4541-9EA2-E6667850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3E2BA-6A4D-4293-908D-62D6D370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D7243-3EC0-4B36-AA52-5C0DA815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C0771-6995-40E0-9050-ED24C651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4DFD3-F22E-4855-BC90-0E62AD01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3EA4B-27A9-4062-81EC-EA457207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7A601-97A1-41FB-B042-DA69C34D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873C5-CBF2-44D0-AB3B-92B1BC55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BADD6-B5E8-44D5-BACE-A30B326C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7A7B7-D8EF-4E34-945E-FD0842F9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F3CE9-6D31-49F7-A50E-A92F74A2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0A32E-331B-492D-904D-7C14AF21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EFCB4-AD23-4B9D-9493-92756F93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19F6-EC7E-43F7-8574-35589107FC4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AEEE-6BC7-4200-88F3-5D692883091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3E59-C14D-404B-8CCF-BEFE728122A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62A6-B9F9-47CB-9954-0D873C384E9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D292-EFE1-4A8F-A73E-682D4314879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A15B-47FD-4064-A9DF-A7BB927EAB5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1E94-482B-4ED8-A4BA-738CFC792B6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BBE1-DDED-428A-9142-A22AD05607C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9448-7D17-4EF1-B1B5-B2322289D2A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E7EF-F7A4-4503-AB85-7D807299C98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8835-9183-43BD-86F4-C30C3A27DC3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-108000" y="189000"/>
            <a:ext cx="92520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0:38Z</dcterms:modified>
  <cp:revision>374</cp:revision>
  <dc:subject/>
  <dc:title>Diapositiva 1</dc:title>
</cp:coreProperties>
</file>